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301-4742-4B82-B05C-83902017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9D5-0A71-4ED8-A73A-30A86BA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C1D-E191-43D2-A6EC-9029ED3B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0E2-5B17-4C2F-B33C-7676532D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BCA-402E-44E2-A760-632A003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A38-1BB5-47FB-870E-D071E7D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A19-F932-4173-8A79-27C895DC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34A-8D66-42C1-9441-222B5F48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1AD-A46E-4C52-9994-E25E262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0D5-D64E-4A0F-81D7-AE3E2C80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9AB-50E8-481C-8CFC-FD53E4CC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FCE-C7A0-431D-840F-A159700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52F-E630-4510-9AC9-5452B885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GUNA general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 Cur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th July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1) Working Groups for the design study (2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.    Tank Instr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.    Underground Ta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    DAQ &amp; 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.    Cosmic Rays, Local Backgrounds,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.    Site exca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6.    Liqu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.    Safety &amp;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.    Physics &amp; Simu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2) Review of the  Physics topics in the paper: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Proton dec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supernova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tmospheric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) sola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) reacto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) geo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) neutrino astrophysics other top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) 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) neutrinos with b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3) Common tools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Update on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Discussion on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 common Theory advisory committee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4) FP7 organisation matter (1h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44:35Z</dcterms:created>
  <dc:creator>J.E Campagne</dc:creator>
  <dc:description/>
  <dc:language>en-US</dc:language>
  <cp:lastModifiedBy>J.E Campagne</cp:lastModifiedBy>
  <dcterms:modified xsi:type="dcterms:W3CDTF">2006-07-21T10:19:46Z</dcterms:modified>
  <cp:revision>2</cp:revision>
  <dc:subject/>
  <dc:title>LAGUNA general meeting</dc:title>
</cp:coreProperties>
</file>